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85B-3285-4055-97C6-8D11318A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131-22F1-45A8-B293-8DB93C9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62F-8029-4ED6-A86B-DDC62DE8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3BF-2C28-42FC-8BA6-4AE6E84F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BAF6-1B69-4E86-AB5E-3ECDDBF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D3F7-ECA0-41E9-96D6-9E07D7C0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4273-108E-487A-984E-3BF37F06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4D02-21D2-4C4A-AF4D-2BCC955E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6E63-2F56-4DA3-9592-5FFB1E70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77CE-8BFB-4163-9210-C2CE2086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8CE6-C9D4-41D4-B32D-966CED39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AFF-29D8-490D-BC7C-C9DE1503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D0BA-C0F8-4D2A-97FF-075A23E3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9E9E-0E0E-430B-9A28-9E7BD9B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478A-0A0D-47B9-8464-91136BE1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BAFB-3710-470E-B79E-3CDB54E0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F640-B227-40E1-944B-002A0089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19DA-97E4-45CF-B70E-C1AE5561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B73-B062-4B65-81AF-B5C4068B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2B8-0262-4E4D-B327-255E1103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D9E-BBA6-4891-97FF-F0DDF979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F2A7-FFB1-499F-8F3D-F04EC26B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84AC-5CFF-4AF8-98A8-C454B127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FF4-D76E-4DC6-B367-DFEDF89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BCF0-39B3-46CA-A401-8C2424FEA89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61B4-A110-4BFA-B7FC-9FFEF06E5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uni-pr"/>
          <p:cNvPicPr/>
          <p:nvPr/>
        </p:nvPicPr>
        <p:blipFill>
          <a:blip r:embed="rId2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rc 3"/>
          <p:cNvSpPr/>
          <p:nvPr/>
        </p:nvSpPr>
        <p:spPr>
          <a:xfrm>
            <a:off x="0" y="843120"/>
            <a:ext cx="2897280" cy="6014880"/>
          </a:xfrm>
          <a:custGeom>
            <a:avLst/>
            <a:gdLst>
              <a:gd name="textAreaLeft" fmla="*/ 0 w 2897280"/>
              <a:gd name="textAreaRight" fmla="*/ 2897640 w 2897280"/>
              <a:gd name="textAreaTop" fmla="*/ 0 h 6014880"/>
              <a:gd name="textAreaBottom" fmla="*/ 6015240 h 6014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9" descr="uni-pr"/>
          <p:cNvPicPr/>
          <p:nvPr/>
        </p:nvPicPr>
        <p:blipFill>
          <a:blip r:embed="rId2"/>
          <a:stretch/>
        </p:blipFill>
        <p:spPr>
          <a:xfrm>
            <a:off x="0" y="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E08E-F941-4D2F-87C0-AA6BBBA8629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q-A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ffffff"/>
                </a:solidFill>
                <a:latin typeface="Times New Roman"/>
              </a:rPr>
              <a:t>Kopje draft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q-A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ffffff"/>
                </a:solidFill>
                <a:latin typeface="Times New Roman"/>
              </a:rPr>
              <a:t>E drejta autoriale: Viti II, Menagj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2B90-8B19-4BE6-B67D-C87646DB706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ffffff"/>
                </a:solidFill>
                <a:latin typeface="Arial"/>
              </a:rPr>
              <a:t>Kopje draf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400" spc="-1" strike="noStrike">
                <a:solidFill>
                  <a:srgbClr val="ffffff"/>
                </a:solidFill>
                <a:latin typeface="Arial"/>
              </a:rPr>
              <a:t>E drejta autoriale: Viti II, Menagj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habllon prezantim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on Beris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6F88-4871-4CF6-AA4B-43E2D236735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CC31-7273-4AD4-BC9F-1E2C0D44D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Hyrj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Formulo qëllimin e diskuti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Prezento vetve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CE2-CD0C-4BDC-83F3-58D6667CD33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8EB1-D7D1-4B82-96AF-2A82728FEA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Temat e diskutimi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Formulo idetë kryesore për të cilat do të flasë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AE9D-B3F6-4C01-8E9F-E205336EC2C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3404-0FCD-401C-B00D-63F8905E43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Tema një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Detaje mbi temë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Informata mbështetëse dhe shembu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Si lidhet kjo me audiencën tua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D5CA-FE1F-492D-958D-39B2D9FE219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9A6E-C890-462B-841E-958F3236C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Tema d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Detaje mbi temë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Informata mbështetëse dhe shembu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Çfarë ka të bëjë me audiencë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B6BC-0243-45AB-A589-DDFE56EFA8F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E44E-F131-44A1-B517-31410A3E3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Tema tr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this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nformation and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relates to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E09C-70AA-4C1D-9D2F-ACCA6609BA9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B421-D321-419D-887D-54D516DAB5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Jeta rea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Jep një shembull anekdote nga jeta re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Bashkndje me pozitën e audiencës nëse është e përshtatsh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094B-413A-4F56-A0D0-3C966BFAC2D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C5C6-EF1F-444E-8F2C-1FE2877139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Përfundimi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Jep një pohim të fuqishëm që përmbledh çfarë ndjeni ose mendoni mbi këtë temë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Përmbledh pikat kyçe të cilat dëshironi që audienca juat t’i mbajë m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5E1-FAE3-440F-85F2-E18DE468DA6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teti "Biznesi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D844-145F-43C7-B168-9145172648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4800" spc="-1" strike="noStrike">
                <a:solidFill>
                  <a:srgbClr val="ffffcc"/>
                </a:solidFill>
                <a:latin typeface="Arial Narrow"/>
              </a:rPr>
              <a:t>Hapat e ardhshëm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Përmbledhni çfarëdo aktiviteti që kërkohet nga audienca juaj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ffffff"/>
                </a:solidFill>
                <a:latin typeface="Arial"/>
              </a:rPr>
              <a:t>Përmbledhni çfarëdo aksioni përcjellës që kërkohet nga j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ton Berisha</cp:lastModifiedBy>
  <dcterms:modified xsi:type="dcterms:W3CDTF">2012-01-11T15:34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